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3118-C3A1-49EE-BC72-3F9A4715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A03A-81F4-4849-9CC5-74572F24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82F3-5448-42D1-9678-3B408B95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B92F-80C5-46D5-977A-8CB9D534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AB1C-CC70-4B78-A8B7-FD4829AA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0F75-F70B-48C2-9D59-7A2E50BF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1BBB-29C1-4605-B03C-9015C093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EEE7-429E-496E-B5E7-2E0878BD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52AB-96C1-4925-BFB4-E63DBEC7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1B2B-2F69-40EF-917F-AD31BCB9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9F50-A31C-4ABE-A530-3BF554DD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A56C-ACD3-48AB-9962-724F021C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45D4-7066-4565-B8FA-580A697333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5FB9-9E01-4C95-B9B2-90D81F911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100" spc="-1" strike="noStrike" u="sng">
                <a:solidFill>
                  <a:srgbClr val="ffffff"/>
                </a:solidFill>
                <a:uFillTx/>
                <a:latin typeface="Verdana"/>
              </a:rPr>
              <a:t>DADA COLLAGE OR POSTE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228600" y="4038480"/>
            <a:ext cx="8686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GOAL: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Using images from popular culture, make a statement about our socie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adbusters_flag.bmp"/>
          <p:cNvPicPr/>
          <p:nvPr/>
        </p:nvPicPr>
        <p:blipFill>
          <a:blip r:embed="rId1"/>
          <a:stretch/>
        </p:blipFill>
        <p:spPr>
          <a:xfrm>
            <a:off x="1509840" y="1066680"/>
            <a:ext cx="6262560" cy="3436920"/>
          </a:xfrm>
          <a:prstGeom prst="rect">
            <a:avLst/>
          </a:prstGeom>
          <a:ln w="0">
            <a:noFill/>
          </a:ln>
        </p:spPr>
      </p:pic>
      <p:sp>
        <p:nvSpPr>
          <p:cNvPr id="44" name="Title 1"/>
          <p:cNvSpPr/>
          <p:nvPr/>
        </p:nvSpPr>
        <p:spPr>
          <a:xfrm>
            <a:off x="6553080" y="64771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ATHANIEL BOOM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da used satire to ridicule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satir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edians often use satire… an exampl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funnyordie.com/videos/d8e838fb1a/george-bush-george-w-bush-hunting-from-nino?rel=by_us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kipedia says:   In satire, vices, follies, abuses, and shortcomings are held up to ridicule, ideally with the intent of shaming individuals, and society itself, into improvement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[1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though satire is usually meant to be funny, its greater purpose is constructive social criticism, using wit as a weap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itle 1"/>
          <p:cNvSpPr/>
          <p:nvPr/>
        </p:nvSpPr>
        <p:spPr>
          <a:xfrm>
            <a:off x="228600" y="4038480"/>
            <a:ext cx="8686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Images are everywhere!  Use creativity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absoluteaa_1"/>
          <p:cNvPicPr/>
          <p:nvPr/>
        </p:nvPicPr>
        <p:blipFill>
          <a:blip r:embed="rId1"/>
          <a:srcRect l="19565" t="0" r="22824" b="0"/>
          <a:stretch/>
        </p:blipFill>
        <p:spPr>
          <a:xfrm>
            <a:off x="2895480" y="419040"/>
            <a:ext cx="40388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le 1"/>
          <p:cNvSpPr/>
          <p:nvPr/>
        </p:nvSpPr>
        <p:spPr>
          <a:xfrm>
            <a:off x="304920" y="4419720"/>
            <a:ext cx="8686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Dada artists wanted to attack and ridicule socie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ausmann_artcritic2.jpg"/>
          <p:cNvPicPr/>
          <p:nvPr/>
        </p:nvPicPr>
        <p:blipFill>
          <a:blip r:embed="rId1"/>
          <a:stretch/>
        </p:blipFill>
        <p:spPr>
          <a:xfrm>
            <a:off x="2571840" y="228600"/>
            <a:ext cx="3905280" cy="503568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6477120" y="1066680"/>
            <a:ext cx="25905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is man was an art critic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-76320" y="1066680"/>
            <a:ext cx="2590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tice his eyes and mouth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bigmac.jpg"/>
          <p:cNvPicPr/>
          <p:nvPr/>
        </p:nvPicPr>
        <p:blipFill>
          <a:blip r:embed="rId1"/>
          <a:stretch/>
        </p:blipFill>
        <p:spPr>
          <a:xfrm>
            <a:off x="1390680" y="1457280"/>
            <a:ext cx="63626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nike_1.jpg"/>
          <p:cNvPicPr/>
          <p:nvPr/>
        </p:nvPicPr>
        <p:blipFill>
          <a:blip r:embed="rId1"/>
          <a:stretch/>
        </p:blipFill>
        <p:spPr>
          <a:xfrm>
            <a:off x="-152280" y="343080"/>
            <a:ext cx="928188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04:53:06Z</dcterms:created>
  <dc:creator>profile</dc:creator>
  <dc:description/>
  <dc:language>en-US</dc:language>
  <cp:lastModifiedBy>Gabriel Swiderski</cp:lastModifiedBy>
  <dcterms:modified xsi:type="dcterms:W3CDTF">2010-08-16T05:03:46Z</dcterms:modified>
  <cp:revision>4</cp:revision>
  <dc:subject/>
  <dc:title>Slide 1</dc:title>
</cp:coreProperties>
</file>